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46AE-5B87-49EA-A104-0657CCA68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P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nd Driv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equences of teen DU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ing with remo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SOBERS A PERSON UP THE FASTEST???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644-63FC-493E-BD06-CEF66085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38A-47A2-4923-A960-CAE2A0CE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B49-4CF6-4C3A-BB0C-1DFECE21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E6E-FE37-455B-BF11-84724143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18E3-DA68-45F7-BA0A-10669EE7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2E04-9BE7-4699-8D18-EF653D5B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F168-C444-40B5-B4DD-8832EC2B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C95C-DC8C-452F-AA2D-9BAD8DFF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21A7-2451-445A-8373-71759904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49E5-7458-4BA7-B948-83ABD6E2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630F-6D17-4C4B-9A33-E1C7DD99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B9A-752F-4254-8408-3DBBF870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5958-CF35-4CC1-9303-9F8D4DF1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28C7-FB8F-4031-BF81-CA286ED7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9167-B9DA-4DBC-A71C-CB007BC9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F77D-A627-4119-962D-6C93B88D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5E7E-4F25-4C4B-AD48-D4B76B10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33D-4535-44EB-82FF-57B1BFAE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3FD-7AE2-4015-84C0-9DB57B49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90E8-255E-48C1-8F31-D4AB1D6F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EC4-0FEC-4477-8336-F32BD455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4C5-FF0A-4C4A-9917-9D3DE853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90A-E025-4741-9F94-0DD3D1C1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ADB-561A-481C-A4D1-DD5322F5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F6B0-D43F-46A1-B201-FADBF2A52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D958-EB34-4E1D-BAEB-684875BEB0B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imes New Roman"/>
              </a:rPr>
              <a:t>ALCOHOL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3" descr="23035392"/>
          <p:cNvPicPr/>
          <p:nvPr/>
        </p:nvPicPr>
        <p:blipFill>
          <a:blip r:embed="rId1"/>
          <a:stretch/>
        </p:blipFill>
        <p:spPr>
          <a:xfrm>
            <a:off x="380880" y="2895480"/>
            <a:ext cx="3094200" cy="381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5MRD5"/>
          <p:cNvPicPr/>
          <p:nvPr/>
        </p:nvPicPr>
        <p:blipFill>
          <a:blip r:embed="rId2"/>
          <a:stretch/>
        </p:blipFill>
        <p:spPr>
          <a:xfrm>
            <a:off x="762120" y="152280"/>
            <a:ext cx="1819080" cy="2667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ain1"/>
          <p:cNvPicPr/>
          <p:nvPr/>
        </p:nvPicPr>
        <p:blipFill>
          <a:blip r:embed="rId3"/>
          <a:stretch/>
        </p:blipFill>
        <p:spPr>
          <a:xfrm>
            <a:off x="5105520" y="1752480"/>
            <a:ext cx="335592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800600" y="6019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LCOPOP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lthy liver"/>
          <p:cNvPicPr/>
          <p:nvPr/>
        </p:nvPicPr>
        <p:blipFill>
          <a:blip r:embed="rId1"/>
          <a:stretch/>
        </p:blipFill>
        <p:spPr>
          <a:xfrm>
            <a:off x="304920" y="838080"/>
            <a:ext cx="4876560" cy="3195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alcoholicliver"/>
          <p:cNvPicPr/>
          <p:nvPr/>
        </p:nvPicPr>
        <p:blipFill>
          <a:blip r:embed="rId2"/>
          <a:stretch/>
        </p:blipFill>
        <p:spPr>
          <a:xfrm>
            <a:off x="5257800" y="380880"/>
            <a:ext cx="3679920" cy="5562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457200" y="41911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ealth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486400" y="60958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lcoholic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inge Drink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Binge Drink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Factors affecting the amount of alcohol in a person’s blood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Drinking and Driv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Times New Roman"/>
              </a:rPr>
              <a:t>SAFEST AMOUNT OF DRINKS  = 0!!!</a:t>
            </a:r>
            <a:br>
              <a:rPr sz="8800"/>
            </a:br>
            <a:br>
              <a:rPr sz="8800"/>
            </a:b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This is at any age!!!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Consequences of teen DUI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ing with remorse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lood Alcohol Concentr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in a person’s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36232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Comic Sans MS"/>
              </a:rPr>
              <a:t>28% reported having an alcoholic beverage in the last mon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45705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Tahoma"/>
              </a:rPr>
              <a:t>Male students more likely than female students to report episodic heavy drink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_(female)3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ac_(male)3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Alcohol Poison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are some things that people do to ‘sober up’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SOBERS A PERSON UP THE FASTEST???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coholism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3 Stages of Alcoholism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Effects on Family and Society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4" descr="j0195872"/>
          <p:cNvPicPr/>
          <p:nvPr/>
        </p:nvPicPr>
        <p:blipFill>
          <a:blip r:embed="rId1"/>
          <a:stretch/>
        </p:blipFill>
        <p:spPr>
          <a:xfrm>
            <a:off x="6477120" y="914400"/>
            <a:ext cx="2438280" cy="35053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6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Where to go for help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152640" y="144792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ffects of Alcoho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ore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4" descr="j0305551"/>
          <p:cNvPicPr/>
          <p:nvPr/>
        </p:nvPicPr>
        <p:blipFill>
          <a:blip r:embed="rId1"/>
          <a:stretch/>
        </p:blipFill>
        <p:spPr>
          <a:xfrm>
            <a:off x="7086600" y="1295280"/>
            <a:ext cx="1797120" cy="23259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46:11Z</dcterms:created>
  <dc:creator>Nancy</dc:creator>
  <dc:description/>
  <dc:language>en-US</dc:language>
  <cp:lastModifiedBy>LEGION2</cp:lastModifiedBy>
  <cp:lastPrinted>2008-06-19T00:55:33Z</cp:lastPrinted>
  <dcterms:modified xsi:type="dcterms:W3CDTF">2016-01-13T12:49:45Z</dcterms:modified>
  <cp:revision>10</cp:revision>
  <dc:subject/>
  <dc:title>ALCOHOL</dc:title>
</cp:coreProperties>
</file>